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3AD-2DB7-4B7C-A1C9-B568D242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36E-F9BF-4AD4-9B3A-08DFE9FB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0C3-7A44-4DB8-BB92-DD71904A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95D-55A5-4105-899D-DE5404C6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8A8-4242-422E-BEA7-F556550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9F8-F8CA-47D0-B013-0C13492E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479-D19A-440E-B23C-67AE4E8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C2B-7799-4454-B59D-3C6F022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AEA-6F30-4ADA-9BCD-244CA55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E5C-81E3-4919-B576-B435D74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AEF-B81E-4A60-B68B-D893D36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B6C-F73A-41FB-84BA-829BC56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722-62F4-483A-82BF-335EBC15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040" y="534960"/>
            <a:ext cx="7759800" cy="195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змерение заряда пылинки по штарковскому уширению спектральных линий атомов водор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" y="3168720"/>
            <a:ext cx="86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аль А. Ф., Сивохин Д. В., Филиппов А.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8200" y="465444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ГНЦ РФ ТРИНИ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550800" y="1413000"/>
          <a:ext cx="3249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413000"/>
                    <a:ext cx="32497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568840" y="1440000"/>
          <a:ext cx="259416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8840" y="1440000"/>
                    <a:ext cx="25941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22760" y="30312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число атомов в сферическом сл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027080"/>
            <a:ext cx="24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ереход от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9400" y="233280"/>
            <a:ext cx="287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(r)dr=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8760" y="3908520"/>
                <a:ext cx="80341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d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28920" y="273852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ω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7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Контур линии при дебаевской экраниров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1720" y="1481040"/>
          <a:ext cx="7292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81040"/>
                    <a:ext cx="7292880" cy="489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196560"/>
            <a:ext cx="8353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Механизмы уширения спектральных ли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7040" y="1833480"/>
            <a:ext cx="777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электр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леровское уши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силами Ван дер Вааль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онансное ушир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080" y="378000"/>
            <a:ext cx="789444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и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ширина линии в квазистатическом приближении для линейного эффекта штар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95680" y="2124000"/>
          <a:ext cx="21891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2124000"/>
                    <a:ext cx="21891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695680" y="2778120"/>
          <a:ext cx="384480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2778120"/>
                    <a:ext cx="38448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641680" y="3875040"/>
            <a:ext cx="38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теории Хольцмарка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27320" y="4792680"/>
          <a:ext cx="30733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4792680"/>
                    <a:ext cx="3073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637600" y="48499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ГС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51240" y="5657760"/>
            <a:ext cx="4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917960" y="5573880"/>
                <a:ext cx="19036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639880" y="57150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ля лин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8760" y="165240"/>
            <a:ext cx="62578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электр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дарное приближ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65240" y="1243080"/>
          <a:ext cx="244800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243080"/>
                    <a:ext cx="2448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99040" y="1235160"/>
          <a:ext cx="19494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1235160"/>
                    <a:ext cx="1949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61280" y="2436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4600" y="18860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онстанта кулоновского взаимо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28840" y="31892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&lt;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5240" y="4105440"/>
          <a:ext cx="690228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5240" y="4105440"/>
                    <a:ext cx="69022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40120" y="5699160"/>
          <a:ext cx="14353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0120" y="569916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287320" y="5648400"/>
            <a:ext cx="6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85840" y="2484360"/>
          <a:ext cx="438624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5840" y="2484360"/>
                    <a:ext cx="4386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89960" y="2523960"/>
            <a:ext cx="75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2240" y="343080"/>
            <a:ext cx="607824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Доплеровская ш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89000" y="1090440"/>
          <a:ext cx="22478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090440"/>
                    <a:ext cx="22478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78520" y="1085760"/>
          <a:ext cx="20541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8520" y="1085760"/>
                    <a:ext cx="2054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47960" y="110484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49200" y="1916280"/>
          <a:ext cx="6021720" cy="14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9200" y="1916280"/>
                    <a:ext cx="60217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03480" y="3503520"/>
          <a:ext cx="2019240" cy="58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3480" y="3503520"/>
                    <a:ext cx="20192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66360" y="353376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422424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ширение силами Ван дер Вааль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24040" y="4943520"/>
          <a:ext cx="32385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4040" y="4943520"/>
                    <a:ext cx="3238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33480" y="5996160"/>
          <a:ext cx="181440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33480" y="5996160"/>
                    <a:ext cx="18144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94120" y="562932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35640" y="6008760"/>
          <a:ext cx="16797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35640" y="6008760"/>
                    <a:ext cx="1679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453000" y="554184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5440" y="59612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52480" y="59720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Штарковское расщепление полем пыли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0200" y="1650960"/>
          <a:ext cx="2489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650960"/>
                    <a:ext cx="2489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172040" y="17384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03720" y="1900080"/>
          <a:ext cx="119556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1900080"/>
                    <a:ext cx="1195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524640" y="1849320"/>
          <a:ext cx="88272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4640" y="1849320"/>
                    <a:ext cx="882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41480" y="2616120"/>
          <a:ext cx="6931080" cy="14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1480" y="2616120"/>
                    <a:ext cx="693108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60920" y="4240080"/>
          <a:ext cx="18777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0920" y="4240080"/>
                    <a:ext cx="18777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336680" y="5375160"/>
          <a:ext cx="21574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6680" y="5375160"/>
                    <a:ext cx="2157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031000" y="5533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-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заряд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201240"/>
            <a:ext cx="69390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Интегрирование контура линии по пространств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7600" y="1233360"/>
          <a:ext cx="82803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233360"/>
                    <a:ext cx="828036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63720" y="2532240"/>
          <a:ext cx="724536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2532240"/>
                    <a:ext cx="7245360" cy="396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720800" y="1050840"/>
          <a:ext cx="608652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1050840"/>
                    <a:ext cx="6086520" cy="56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0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азотной температур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82640" y="174600"/>
            <a:ext cx="75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комнатной темп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20760" y="1428840"/>
          <a:ext cx="56930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1428840"/>
                    <a:ext cx="569304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3:37:09Z</dcterms:created>
  <dc:creator>Mir</dc:creator>
  <dc:description/>
  <dc:language>en-US</dc:language>
  <cp:lastModifiedBy>Наташа</cp:lastModifiedBy>
  <dcterms:modified xsi:type="dcterms:W3CDTF">2002-08-31T19:16:51Z</dcterms:modified>
  <cp:revision>188</cp:revision>
  <dc:subject/>
  <dc:title>ГНЦ РФ  «Троицкий институт инновационных и термоядерных исследований»</dc:title>
</cp:coreProperties>
</file>